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B213-F717-4E4E-8D37-5C3EBA529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142D-47BF-4702-AED8-07237A432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C732-CB02-4E46-AF0E-77FB3653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8AB7-F5A0-439B-864D-1275A148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AEE14-1799-47B7-9131-EE7B66BA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F0571-2E9B-4627-929B-72B33C61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3107D-8627-447A-84F3-FAE7AC76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C6456-AD95-40B0-B1C2-70FB7125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79ED2-091B-4207-8AC1-B3EA6D91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6BFC6-CB12-42E7-9CAD-F82F8ACA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7FFFF-450B-451A-A35A-E1DB25B8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986C5-51DE-4EB6-B63A-160A123C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8C84B-EA18-4DA9-A9F0-44ADAF63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94A0B-22BF-40B9-8581-C856C8F1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49E4-D458-42C0-8689-A799D345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B98BC-A603-446B-9B17-4D758338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76599-F4B3-460D-990C-0C537D0B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D4549-EB57-4B3B-95C8-D0BF42B2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3C6CC-CEDE-46D6-9DA9-88DF7121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1B563-0DE5-4483-94B6-71C98B43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BF7A1-E132-4679-80EE-3D74D797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1F180-1D4F-482E-9CD9-8D1B5C2B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3DCE4-9705-4DF8-98D8-81D4C59D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74100-8BEC-46A8-AE0E-A1CB735D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0B20C-FCAC-40D1-A7BD-97AB4B41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ADC8-8735-4B15-9219-5B1B8734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AC3D8-574E-4A26-955B-664E31DD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9B52-5CBE-4057-B63E-BE8279CE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161F-8622-49FD-907B-7645F045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6F3D-FD2D-4CF3-8AB8-79EBDE5B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09FC-894D-445B-853C-4C60F1B6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85CB-DDE6-430F-9075-AA0D9564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E26B-DA1F-4FB8-B7F5-ECB43A13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B761-DF53-4A1F-B108-CEA6C27A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33A-7078-428D-AD5A-7CBE055E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96E9-B171-49B9-B191-9D01C62E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CC0A-C6A0-4FC2-9AAD-3118EB95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CF83-CA28-4A95-85BF-31CB4A43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D00F-89A9-4718-A5C9-8231BD2A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3E3E-407C-431D-9FA1-372D5F51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5756E-0510-4CA8-9679-9FF36086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24649-707A-4561-90F1-372355F8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C2B2A-D9F0-442C-848B-DE683D2D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B2143-B6DF-46C3-901D-62601EFE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18A9E-C63F-4FCE-9D09-8978C5BB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9DB-938B-4A63-861C-3C5144EF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66764-5DBF-40FC-A80E-88C5E01C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3D1F5-4285-422B-946C-710AE1F4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E1D81-F612-49F7-B3B5-EB3551DD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6723D-6DD5-4A83-AACA-57A57267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0B805-7DBE-475C-824F-62D6ABBE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45C1C-E7A7-4A56-A1A6-504E9956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0259D-C1DC-4B01-BEAA-F0A79771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F5BEA-1DC6-4985-AB61-4D3480BA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7A50-C1FA-48D9-81CE-88820CFA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670C9-5E81-4512-B404-AEAE34B3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E91-8114-4712-BD8F-80413122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5CF65-3F01-4442-9EC9-30CE22BA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6A4A1-037F-4487-AD68-02E37B03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D5CC8-1107-47D4-A696-59C34EFE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C2693-FD66-46DA-A27F-1A6D6425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6E1F0-FCCC-4770-85C5-748A587B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9A252-CA35-4A9C-8653-DDD25BB5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D133B-C386-43D2-9E27-EADCC202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C4C39-603C-4BBE-B55C-E618F515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632CC-BE13-4806-938E-06BCD648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97817-9D5F-405B-BB9B-FE203CE4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569F-AEB1-461B-AD85-38802537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B2029-141D-4296-9B07-CC9682D5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D7B77-CBDA-4A36-A717-C438F7A7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9A5A9-7880-431C-9946-535BC604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EC66A-D1B0-4EDC-B101-8C93AB1E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7733F-E58E-43EC-BECE-BCF305BB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E16B2-A70F-4F59-A142-33DB3ECA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E73AF-9FC1-48D2-A95B-FF1EC3DC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D0FE8-AB9B-4C73-ACEA-AA273E4E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8B579-C6F9-4945-B1E3-C4158A0B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6A57C-9C71-4A7A-8753-E4ABC413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FCDA-2EE8-43F0-BA15-114F6840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35BDA-69C1-4F2E-83F4-3A7BEF86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4B37F-ACAE-4287-AF4E-5C6C9D80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7D489-E925-4F3D-834C-D4CA2DA0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61200-1B33-4CD2-86BC-F3B5F51A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6B46E-D720-471D-A280-139C3A3C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81BE7-7144-4CBA-AAE6-52D59478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C57EB-C87C-466E-9414-0D4C2867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48817-5FC2-4B54-923E-4230FBC4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6B4CE-4C54-4089-8601-2CDFC58A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BAEEE-A95F-4693-BABA-4AACB8FC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040-7BB3-4D00-A5C5-C3DF924F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AABDB-E751-45C4-991C-C361CB7D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C662C-38E4-49C8-851A-68F28CD0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33C3E-1855-4BD5-B6EA-4D6BF806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A8E76-4086-4D1F-870F-7894909A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F0112-50F8-4AE8-A6A9-D71AF46D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FF910-C9E8-4EA8-8300-53600CBE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6BE2B-363F-4E06-A63E-42DD6C8E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044ED-A1C5-4016-B656-4C3C743E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8448C-7B8F-4D32-89A4-67040C83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F0696-600B-4B19-9B51-E6E62823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1C33-9990-4D9E-807D-73C67ADD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BA272-5897-456C-AD84-08323224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C5814-D3D2-47AC-9410-FDC24615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757E0-5F14-4EFD-A317-B254ED90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9D005-2A42-4760-BCE5-340E4838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05526-3A48-4631-8902-4FE82F23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7C942-CF49-42C9-8C37-B540DA15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75FEB-DDDC-4774-B6E7-EAAE1F96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41171-5FD4-42DF-A973-1B388E71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BAEDF-A69B-45BB-A2C2-CBA9F520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44361-A8EF-4D17-87CD-C5AD8EFB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33B1-D8C8-4D83-9780-BCE761D9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1DF0D-0E55-42E8-8EE4-A332A44B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2BD90-45D3-44EA-8EE6-FC0C2F62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35627-54C5-4394-851E-F60A2AFD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BE67F-FE2A-4C9A-ADA3-F5E7CA28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C46DE-91B3-497C-B168-EFD408B0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E8B68-3024-4354-9877-AB960CCF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5127F-0415-4853-99EB-E66ADA16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826C5-A3EF-4366-9715-04F42052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E450B-15AC-433D-8DAC-FEAB6D2E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02F57-EA71-41C9-A867-607EFA98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5CFF-961C-4863-B1BC-A1EC0EDF97B3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F661-6A99-4B57-84A6-8B2DDA390DC4}" type="slidenum">
              <a:rPr b="0" lang="en-US" sz="12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2"/>
          <p:cNvSpPr/>
          <p:nvPr/>
        </p:nvSpPr>
        <p:spPr>
          <a:xfrm>
            <a:off x="762120" y="1066680"/>
            <a:ext cx="4572000" cy="4572000"/>
          </a:xfrm>
          <a:prstGeom prst="rect">
            <a:avLst/>
          </a:prstGeom>
          <a:solidFill>
            <a:srgbClr val="ffffff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t">
            <a:noAutofit/>
          </a:bodyPr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9762-A2F6-4620-B41B-3011522019AE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B79E-F218-4B7B-BCD6-37685D3ECBE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E548-0788-4124-B8ED-317FB4BCC216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B895-4187-43E4-A30E-6210327B375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19C3-70C2-4B9A-A053-60CC555D5119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F769-A1D3-4B8E-BBEE-72BC25BE46A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0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3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9404-2179-4B82-AB9C-5D2579FA887A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CAA6-158E-4FEA-903C-34857DA722F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ie 12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7" name="Donut 15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Donut 15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00" name="Rectangle 16"/>
          <p:cNvSpPr/>
          <p:nvPr/>
        </p:nvSpPr>
        <p:spPr>
          <a:xfrm>
            <a:off x="1033560" y="0"/>
            <a:ext cx="81309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C350-F3CB-4AF3-AD74-6D86D6229CCB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BBF9-C0F8-46E0-8741-E340C27693A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200E-CF65-4DB9-92D7-5DA1742A4733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5E61-C951-4C08-B49B-4C4BE8F9428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5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6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88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22C0-453E-41DB-896F-9E22D048465C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9D03-336E-4E7C-B3E4-0AE5006F458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62A9-E82E-4304-ACFB-4834B50F25C4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CB3E-0513-41B2-8C58-3798EDE5D05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0000-C1F8-4B29-B6A3-949F3C775B4A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8C15-B54E-42A2-A888-E535B1253DC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34960" y="43632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Spring 2011 European Tours Proposal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Ellen Latsk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7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Tour Developer-Europ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7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 Specialty Tra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Tour Development Goals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cus on significant experien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serve QST valu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ce tours reasonab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learning opportunit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ffer local gui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exper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20:40:51Z</dcterms:created>
  <dc:creator> David Beskeen</dc:creator>
  <dc:description/>
  <dc:language>en-US</dc:language>
  <cp:lastModifiedBy>image</cp:lastModifiedBy>
  <dcterms:modified xsi:type="dcterms:W3CDTF">2012-05-11T15:55:45Z</dcterms:modified>
  <cp:revision>8</cp:revision>
  <dc:subject/>
  <dc:title>Spring 2011 European Tour Proposal</dc:title>
</cp:coreProperties>
</file>